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2498-9EC3-4A8A-945A-195D9BE95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F26C-DA93-45F2-B6EA-7EDBD7957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2B82-8D68-432A-A4FF-1AB4A6EDF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4FA0-AFA0-4210-80B3-FF6779C2F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0634-8B2F-4DC0-AB69-1290BE797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4278-85A0-4D55-A635-285299940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FC0D-01CE-4A9D-A41E-214E70BC9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3186-5C8A-4D89-8748-C086D3577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7C68-1AE8-46E5-8657-F134964A3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1839-606B-4684-81E0-8CEBC80AC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EFB4-F981-4373-9C11-49E1A3261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B47F-551B-4957-807A-C37962EE3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E166-C62D-41AB-A8A6-8DE50C11D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2949-95CD-446B-B36B-44EAA3826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60E7-D62D-49D9-ADA1-DB5D5A5D6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806C-79E9-4DF6-A0F5-7AE8706F9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8A64-FD48-4E80-9E57-6AF8B3DD3F4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 6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Adjusting Entries on a Work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ching Expenses with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1D26-AC04-48DD-B618-BDE03FB5824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 ADJUSTMENT ON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6\C21_blue_0603.jpg"/>
          <p:cNvPicPr/>
          <p:nvPr/>
        </p:nvPicPr>
        <p:blipFill>
          <a:blip r:embed="rId1"/>
          <a:srcRect l="763" t="0" r="1186" b="14838"/>
          <a:stretch/>
        </p:blipFill>
        <p:spPr>
          <a:xfrm>
            <a:off x="380880" y="1447920"/>
            <a:ext cx="8229600" cy="216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mcm08@fuse.net\My Documents\2005 Business Projects\Slides for Century 21 Accounting\Blue\ch06\C21_blue_0606.jpg"/>
          <p:cNvPicPr/>
          <p:nvPr/>
        </p:nvPicPr>
        <p:blipFill>
          <a:blip r:embed="rId2"/>
          <a:stretch/>
        </p:blipFill>
        <p:spPr>
          <a:xfrm>
            <a:off x="4114800" y="3733920"/>
            <a:ext cx="3198960" cy="1393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6705720" y="34956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8199360" y="2133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4"/>
          <p:cNvGrpSpPr/>
          <p:nvPr/>
        </p:nvGrpSpPr>
        <p:grpSpPr>
          <a:xfrm>
            <a:off x="6141960" y="2276640"/>
            <a:ext cx="1173240" cy="771480"/>
            <a:chOff x="6141960" y="2276640"/>
            <a:chExt cx="1173240" cy="771480"/>
          </a:xfrm>
        </p:grpSpPr>
        <p:sp>
          <p:nvSpPr>
            <p:cNvPr id="106" name="Freeform 23"/>
            <p:cNvSpPr/>
            <p:nvPr/>
          </p:nvSpPr>
          <p:spPr>
            <a:xfrm>
              <a:off x="6400800" y="2590920"/>
              <a:ext cx="914400" cy="4572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6141960" y="22766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Picture 5" descr="C:\Documents and Settings\mcm08@fuse.net\My Documents\2005 Business Projects\Slides for Century 21 Accounting\Blue\ch06\C21_blue_0604.jpg"/>
          <p:cNvPicPr/>
          <p:nvPr/>
        </p:nvPicPr>
        <p:blipFill>
          <a:blip r:embed="rId3"/>
          <a:stretch/>
        </p:blipFill>
        <p:spPr>
          <a:xfrm>
            <a:off x="457200" y="3733920"/>
            <a:ext cx="3198960" cy="1251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5"/>
          <p:cNvSpPr/>
          <p:nvPr/>
        </p:nvSpPr>
        <p:spPr>
          <a:xfrm>
            <a:off x="457200" y="51055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457200" y="5473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457200" y="5842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he two parts of this adjus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1AA2-415A-4A15-A9E3-09E30EB2F13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ID INSURANCE ADJUSTM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C:\Documents and Settings\mcm08@fuse.net\My Documents\2005 Business Projects\Slides for Century 21 Accounting\Blue\ch06\C21_blue_0607.jpg"/>
          <p:cNvPicPr/>
          <p:nvPr/>
        </p:nvPicPr>
        <p:blipFill>
          <a:blip r:embed="rId1"/>
          <a:srcRect l="1151" t="0" r="914" b="7297"/>
          <a:stretch/>
        </p:blipFill>
        <p:spPr>
          <a:xfrm>
            <a:off x="457200" y="14479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mcm08@fuse.net\My Documents\2005 Business Projects\Slides for Century 21 Accounting\Blue\ch06\C21_blue_0608.jpg"/>
          <p:cNvPicPr/>
          <p:nvPr/>
        </p:nvPicPr>
        <p:blipFill>
          <a:blip r:embed="rId2"/>
          <a:stretch/>
        </p:blipFill>
        <p:spPr>
          <a:xfrm>
            <a:off x="457200" y="3733920"/>
            <a:ext cx="3198960" cy="141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mcm08@fuse.net\My Documents\2005 Business Projects\Slides for Century 21 Accounting\Blue\ch06\C21_blue_0610.jpg"/>
          <p:cNvPicPr/>
          <p:nvPr/>
        </p:nvPicPr>
        <p:blipFill>
          <a:blip r:embed="rId3"/>
          <a:stretch/>
        </p:blipFill>
        <p:spPr>
          <a:xfrm>
            <a:off x="4114800" y="3733920"/>
            <a:ext cx="3198960" cy="1414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6705720" y="3475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8199360" y="2133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6141960" y="2276640"/>
            <a:ext cx="1173240" cy="771480"/>
            <a:chOff x="6141960" y="2276640"/>
            <a:chExt cx="1173240" cy="771480"/>
          </a:xfrm>
        </p:grpSpPr>
        <p:sp>
          <p:nvSpPr>
            <p:cNvPr id="122" name="Freeform 18"/>
            <p:cNvSpPr/>
            <p:nvPr/>
          </p:nvSpPr>
          <p:spPr>
            <a:xfrm>
              <a:off x="6400800" y="2590920"/>
              <a:ext cx="914400" cy="4572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141960" y="22766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Rectangle 20"/>
          <p:cNvSpPr/>
          <p:nvPr/>
        </p:nvSpPr>
        <p:spPr>
          <a:xfrm>
            <a:off x="457200" y="51055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457200" y="5473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57200" y="5842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he two parts of this adjus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B510-B5B1-4902-8C19-FB3CA97325D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457200" y="1447920"/>
            <a:ext cx="8229600" cy="3260520"/>
            <a:chOff x="457200" y="1447920"/>
            <a:chExt cx="8229600" cy="3260520"/>
          </a:xfrm>
        </p:grpSpPr>
        <p:pic>
          <p:nvPicPr>
            <p:cNvPr id="130" name="Picture 4" descr="C:\Documents and Settings\mcm08@fuse.net\My Documents\2005 Business Projects\Slides for Century 21 Accounting\Blue\ch06\C21_blue_0611.jpg"/>
            <p:cNvPicPr/>
            <p:nvPr/>
          </p:nvPicPr>
          <p:blipFill>
            <a:blip r:embed="rId1"/>
            <a:srcRect l="678" t="2304" r="1356" b="62262"/>
            <a:stretch/>
          </p:blipFill>
          <p:spPr>
            <a:xfrm>
              <a:off x="457200" y="1447920"/>
              <a:ext cx="8229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3" descr="C:\Documents and Settings\mcm08@fuse.net\My Documents\2005 Business Projects\Slides for Century 21 Accounting\Blue\ch06\C21_blue_0611.jpg"/>
            <p:cNvPicPr/>
            <p:nvPr/>
          </p:nvPicPr>
          <p:blipFill>
            <a:blip r:embed="rId2"/>
            <a:srcRect l="678" t="74629" r="1356" b="1589"/>
            <a:stretch/>
          </p:blipFill>
          <p:spPr>
            <a:xfrm>
              <a:off x="457200" y="3429000"/>
              <a:ext cx="8229600" cy="12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NG THE ADJUSTMENTS COLUMNS OF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114480" y="5832360"/>
            <a:ext cx="32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457200" y="51656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oth the Adjustments Debit and Credit column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each column’s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114840" y="4800600"/>
            <a:ext cx="32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9"/>
          <p:cNvGrpSpPr/>
          <p:nvPr/>
        </p:nvGrpSpPr>
        <p:grpSpPr>
          <a:xfrm>
            <a:off x="8096400" y="3276720"/>
            <a:ext cx="411120" cy="866520"/>
            <a:chOff x="8096400" y="3276720"/>
            <a:chExt cx="411120" cy="866520"/>
          </a:xfrm>
        </p:grpSpPr>
        <p:sp>
          <p:nvSpPr>
            <p:cNvPr id="138" name="Line 18"/>
            <p:cNvSpPr/>
            <p:nvPr/>
          </p:nvSpPr>
          <p:spPr>
            <a:xfrm flipV="1">
              <a:off x="8305920" y="3381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8096400" y="327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0"/>
          <p:cNvGrpSpPr/>
          <p:nvPr/>
        </p:nvGrpSpPr>
        <p:grpSpPr>
          <a:xfrm>
            <a:off x="7781760" y="4571640"/>
            <a:ext cx="411480" cy="945000"/>
            <a:chOff x="7781760" y="4571640"/>
            <a:chExt cx="411480" cy="945000"/>
          </a:xfrm>
        </p:grpSpPr>
        <p:sp>
          <p:nvSpPr>
            <p:cNvPr id="141" name="Line 17"/>
            <p:cNvSpPr/>
            <p:nvPr/>
          </p:nvSpPr>
          <p:spPr>
            <a:xfrm flipV="1">
              <a:off x="8001000" y="45716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7781760" y="5105520"/>
              <a:ext cx="41148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2"/>
          <p:cNvGrpSpPr/>
          <p:nvPr/>
        </p:nvGrpSpPr>
        <p:grpSpPr>
          <a:xfrm>
            <a:off x="3276720" y="4133880"/>
            <a:ext cx="837720" cy="411120"/>
            <a:chOff x="3276720" y="4133880"/>
            <a:chExt cx="837720" cy="411120"/>
          </a:xfrm>
        </p:grpSpPr>
        <p:sp>
          <p:nvSpPr>
            <p:cNvPr id="144" name="Line 21"/>
            <p:cNvSpPr/>
            <p:nvPr/>
          </p:nvSpPr>
          <p:spPr>
            <a:xfrm flipH="1">
              <a:off x="3352320" y="4343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3276720" y="41338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3A65-308F-481D-940F-75EC28BDC56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6:17Z</dcterms:created>
  <dc:creator>M. C. McLaughlin</dc:creator>
  <dc:description/>
  <dc:language>en-US</dc:language>
  <cp:lastModifiedBy>bstromes</cp:lastModifiedBy>
  <dcterms:modified xsi:type="dcterms:W3CDTF">2014-10-22T16:27:53Z</dcterms:modified>
  <cp:revision>23</cp:revision>
  <dc:subject/>
  <dc:title>Lesson 6-1</dc:title>
</cp:coreProperties>
</file>